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2288-8B35-44BE-9071-70E67D71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021C-9F2A-49BF-966F-001820B7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FB54-86B8-4C00-B7A6-7BB62036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D60F-054D-4BAE-B4BC-3D310184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8D92-9D2E-4EAE-B5ED-FDF8DC02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3884-261F-4C32-9264-9A7DB0C8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C42B-04FF-44AF-8716-114B9329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00AA-48D0-45DA-BE32-EACAD8F5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D0B2-83DC-4BEF-B380-92C3B404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EC5D-F6A0-4F24-9F1A-A7BD4A76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1355-D936-48EB-A14C-7506F461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3693-451F-47BF-A9FE-F1263A79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BB96-845F-43D8-A56B-80408F833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awker.com/assets/images/gawker/2008/01/20061128135051_tracymorganwenn_2.jpg&amp;imgrefurl=http://gawker.com/tag/tracy-morgan/&amp;usg=__hbfhNiaDX0m_GE6bYvT6uS2rZM8=&amp;h=228&amp;w=185&amp;sz=39&amp;hl=en&amp;start=3&amp;sig2=2j85JtEBD2Ja2TYUGMaQsA&amp;tbnid=5-qgZlLEECgEYM:&amp;tbnh=108&amp;tbnw=88&amp;prev=/images%3Fq%3Dtracy%2Bmorgan%26gbv%3D2%26ndsp%3D20%26hl%3Den%26sa%3DN%26ie%3DUTF-8&amp;ei=nATqScXQM4_MMs-WmdQF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le.com/var/ezflow_site/storage/images/elle/entertainment/books/elizabeth-gilbert/3365254-1-eng-US/Elizabeth-Gilbert_articleimage.jpg&amp;imgrefurl=http://www.elle.com/Entertainment/Books/Elizabeth-Gilbert&amp;usg=__4w6Pz9j-3sz_mSxC3IOOqEHcOeM=&amp;h=385&amp;w=325&amp;sz=46&amp;hl=en&amp;start=48&amp;sig2=XuB1cIQO4ebjrjF7VSwl9g&amp;tbnid=ZjGImi7DrwZubM:&amp;tbnh=123&amp;tbnw=104&amp;prev=/images%3Fq%3Delizabeth%2Bgilbert%26gbv%3D2%26ndsp%3D20%26hl%3Den%26sa%3DN%26start%3D40%26ie%3DUTF-8&amp;ei=mgHqSe3PNoi6M-3w2cwF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ssets.mog.com/pictures/wikipedia/293046/800px-54322834_35515490cb.jpg&amp;imgrefurl=http://mog.com/music/Aimee_Mann/photos&amp;usg=__N9KK_-Rw5koxoI70Nnihmw8ez7M=&amp;h=600&amp;w=800&amp;sz=58&amp;hl=en&amp;start=3&amp;sig2=sY8VStUF2_9DTIToYkizpQ&amp;tbnid=Dn4Ojk9iIDBuoM:&amp;tbnh=107&amp;tbnw=143&amp;prev=/images%3Fq%3Daimee%2Bmann%26gbv%3D2%26ndsp%3D20%26hl%3Den%26sa%3DN%26ie%3DUTF-8&amp;ei=SgjqSZ-vCaK0NcOU5eEF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uthenticorganizations.com/wp-content/uploads/2008/11/image2.png&amp;imgrefurl=http://authenticorganizations.com/harquail/2008/11/13/if-stephen-colbert-were-the-ceo-of-zappos-explaining-a-layoff-to-your-employees/&amp;usg=__Cq-i2w67qRHNs5LxQyLUQR1x-Qc=&amp;h=336&amp;w=367&amp;sz=287&amp;hl=en&amp;start=19&amp;sig2=pBT1Yh03o-y3N9NDh4olqA&amp;tbnid=VjphTL7tPxu3gM:&amp;tbnh=112&amp;tbnw=122&amp;prev=/images%3Fq%3Dstephen%2Bcolbert%2Bthe%2Bword%26gbv%3D2%26hl%3Den%26ie%3DUTF-8&amp;ei=TgHqSbGDKaTwMsi24cwF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inavivinetto.files.wordpress.com/2008/12/hemingway.jpg&amp;imgrefurl=http://ginavivinetto.wordpress.com/2008/12/31/ernest-hemingway-wore-girl-clothes/&amp;usg=__85uEfO7rQgXLI0q1ps3qXZ1R4S4=&amp;h=628&amp;w=485&amp;sz=39&amp;hl=en&amp;start=1&amp;sig2=Uuf3aCNnk8pcvrLbW-8C_w&amp;tbnid=U77RY_3YSOw26M:&amp;tbnh=137&amp;tbnw=106&amp;prev=/images%3Fq%3Dhemingway%26gbv%3D2%26hl%3Den%26ie%3DUTF-8&amp;ei=7gDqSeeDKYq-M72X_d8F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Not Quite What I was Planning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ix-Word Memoi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Writers Famous &amp; Obs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. By Smith Magaz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ful nerd kid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ppy nerd adul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.J. William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the end of normal stre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y M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04920"/>
            <a:ext cx="138888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ined army. Came out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t boot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an Baume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thought I was someone el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sa Goodr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 see world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 write stor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zabeth Gilb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533520"/>
            <a:ext cx="9907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like big butts. Can’t li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e Ru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hope to outlive my regre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 Lo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ldn’t cop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I wrote son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ee Ma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4191120"/>
            <a:ext cx="136224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nd true lov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ried someone el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jorn St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sell hamburgers and french fri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ard mau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cats. Still single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surpri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istie Schm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121608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een years since last professional haircu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e Eg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391520" y="380880"/>
            <a:ext cx="126684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colons; I use them to exce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is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ing in apartment knitting against depress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urie 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write because I can’t slee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 Mezr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80028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fter Harvard, had baby with crackhe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in Temple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een years old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ry still untol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id Gidw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l, I thought it was funn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hen Colb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5257800"/>
            <a:ext cx="1162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rush on Susan Sarandon. Unrequit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y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emely responsibl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retly longed for spontanei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bra Jen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sale: baby shoes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wor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est Heming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5029200"/>
            <a:ext cx="100980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ys deaf boyfriend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’re too qui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a Jane Gross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16:31:03Z</dcterms:created>
  <dc:creator>s</dc:creator>
  <dc:description/>
  <dc:language>en-US</dc:language>
  <cp:lastModifiedBy>s</cp:lastModifiedBy>
  <dcterms:modified xsi:type="dcterms:W3CDTF">2009-04-18T18:45:41Z</dcterms:modified>
  <cp:revision>11</cp:revision>
  <dc:subject/>
  <dc:title>Not Quite What I was Planning:  Six-Word Memoirs</dc:title>
</cp:coreProperties>
</file>